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8.png" ContentType="image/png"/>
  <Override PartName="/ppt/media/image17.gif" ContentType="image/gif"/>
  <Override PartName="/ppt/media/image3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4.png" ContentType="image/png"/>
  <Override PartName="/ppt/media/image6.png" ContentType="image/pn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d71e5f"/>
                </a:solidFill>
                <a:latin typeface="Corbel"/>
              </a:rPr>
              <a:t>Click to move the slide</a:t>
            </a:r>
            <a:endParaRPr b="1" lang="en-US" sz="4500" spc="-1" strike="noStrike">
              <a:solidFill>
                <a:srgbClr val="d71e5f"/>
              </a:solidFill>
              <a:latin typeface="Corbe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D3457-287E-4348-9CCF-6000A8FEB7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1C844-AE1F-49E8-821A-CC94C54959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91AAB-BE34-46E0-823A-3C8E52197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71e5f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14DD0-842F-48A3-94A3-B51C16279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71e5f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2CF49-670E-4296-A71D-1B9493F6E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71e5f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14F49-61B4-45FD-A26B-3AA494FD7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A1C5F-AFB0-41BD-8EDA-0339A5CD1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71e5f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7331C-521B-4A6A-AAB4-223552ED6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71e5f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64B47-8294-4BBD-8C87-40F5CC16E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71e5f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94015-78CD-4380-8BCE-66BE46567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71e5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2AFF3-F5D5-443B-A0A8-5F0FB2082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95AE7-B96D-4288-9102-EDC7DDDBF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71e5f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126F2-73A1-4E0E-BAAD-884895FF1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71e5f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97BD6-414E-4D48-A448-F6D343299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71e5f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03481-96E5-4D4D-916C-5B4E407FC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71e5f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3CCE5-416F-4FFB-80FC-E8F89E83F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71e5f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17C22-399A-4545-9CE8-DCB631F59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71e5f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90570-409C-4989-B11F-95BD85AF3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71e5f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38025-3FC5-40C6-A9C1-A903E7722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005D82-1085-42D0-8A84-0A35DF004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71e5f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ECE764-B0BC-4A83-9CE3-2EEFE3FD3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71e5f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C21029-D6EF-4261-BF9F-147EBBF3E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71e5f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F74FE5-7466-492F-BAE4-46DC73D6B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71e5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0923CD-F9F5-4DB8-BF7D-5670E81B0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71e5f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E0931-93EA-4E80-BEE6-65CBD5379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A3059F-8416-4786-84B4-1358E2CF0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71e5f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8349C3-330D-4346-9664-455F8E605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71e5f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C2D887-BDA9-4B07-BD17-D323B16E4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71e5f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180BAC-6576-48EF-8B10-9F86FA6B3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71e5f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681F08-598B-4764-8156-C0160744A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71e5f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3E3960-D009-4A42-8F83-314F9886C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71e5f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1ECB70-74B4-447E-89E6-23BEC57F6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89CD17-4DDD-4396-B6C5-CDB2AA391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71e5f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9B7F91-D0C7-4478-9AFB-747C5045B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71e5f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57BD8F-FB7A-49AE-8D20-EC8AF12C7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71e5f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49397-736E-4031-A074-4F167C79B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71e5f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F56331-296F-4B72-801F-A0D6EC97D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71e5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87D694-092F-4637-BA7B-35E723104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09F3D0-0B8C-47B9-8015-67E60B2FB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71e5f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EADD16-877A-4B26-9EE8-88F18419D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71e5f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EF2263-7ED1-4CDF-9193-5D2FDD179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71e5f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112F15-7768-4BF3-BDB5-C4299A76B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71e5f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AFA534-0720-4E05-9F91-1EFA1FBFA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71e5f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A2BC47-B6C1-494E-A848-6B6409678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71e5f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28D349-6DD8-4C58-8A00-3CC8AC5CF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99A8C8-6815-4A82-87D6-580614A09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71e5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16612-DECF-4BDD-8925-5CC81B6DD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71e5f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2BF211-5A28-4C32-8CF8-7B36AB8EF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71e5f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4CFE66-6A7D-4E97-85CA-3C0E38FBD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71e5f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0CDF31-9AFF-4D46-AA38-B1F32ECCE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71e5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AD00EB-597A-476E-968E-3A3E7EA2E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09948A-AF1A-47C9-9FDB-7BBAD7377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71e5f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B35BAE-4FCF-4782-A871-6C6C97662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71e5f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5EC983-CC0E-4419-954D-D9C7A48D7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71e5f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2906E6-0AE3-4DD1-B001-D5D2DC54B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71e5f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1EEABB-E510-4FA6-8D47-DB0CF0F62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71e5f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B6467A-3FBA-451F-B382-B87183660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788E7-5603-4BB7-BE10-B19C2EE7F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71e5f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DFEEDE-865B-4BAE-938F-BDC606147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66EE45-29A7-407A-AFED-7F62B48A3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71e5f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2ACBCE-2C24-4FB2-B5AC-611539195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71e5f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DDA382-D21E-4303-BF84-96BB3492A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71e5f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4266FE-A189-46D4-A931-15C97951A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71e5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989660-C2B1-44F9-B4D3-24365A004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D05CA1-B935-4000-B942-7340B475E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71e5f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2910B4-C096-42F7-9D92-B346F5039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71e5f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F7E1D1-017F-45BA-B6B2-CFDCB4CC5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71e5f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F47B60-1A35-42C0-BEE3-C71A167EB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71e5f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1D3A4-C42B-4F70-A947-07F33E1BE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71e5f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6550F3-2E72-4362-A58C-220115F31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71e5f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25C61E-C407-4A4E-A7E0-CCCFFA696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71e5f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C080D2-D934-43B1-ABC6-39561C0B4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666E13-ACFC-4B2B-831F-2D7EBBE63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71e5f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05648F-DE3D-45F7-A60E-107013031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71e5f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949C71-1A43-4B9D-9544-D103FEA07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71e5f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652EBD-AAC8-481E-8D53-50B085F91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71e5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0C6A57-0ED9-4ECB-A5BD-41D4BDF71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226BD2-3D50-498C-872F-EAFE694DE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71e5f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77E345-4E01-4999-838F-2E29D8728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71e5f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97220-70C6-49C4-BF7F-DCA8A1B4F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71e5f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D2B614-7BCE-42D5-95A8-82340420D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71e5f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C030B4-6796-4B24-9682-5B90728C5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71e5f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97E6ED-544B-4BC0-81DA-C336D13E6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71e5f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C98E0F-DAB6-4BD9-A71B-901722736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71e5f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F79D94-C2B7-425A-B09B-FDDA4627B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71e5f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5F012-D507-4BEF-9066-0F46D0BA5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d71e5f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d71e5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b83d68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ac66b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de6c36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f9b639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cf6da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0E83C-B05E-41A6-B2A1-CFBF4BD7286C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0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d71e5f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d71e5f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b83d68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ac66b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de6c36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f9b639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cf6da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9874D-1623-463F-A871-1D17A1FC75DC}" type="slidenum">
              <a:rPr b="0" lang="en-US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8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d71e5f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d71e5f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b83d68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ac66b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de6c36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f9b639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cf6da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9F1BE-0C8A-406C-9889-0DE5F3434237}" type="slidenum">
              <a:rPr b="0" lang="en-US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d71e5f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d71e5f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b83d68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ac66b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de6c36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f9b639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cf6da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F982C-3D6E-4DD7-A37B-C45E80350407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8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0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d71e5f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d71e5f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b83d68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ac66b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de6c36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f9b639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cf6da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96768-64FA-4A13-939B-A4BE0445320D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7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8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10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d71e5f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d71e5f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b83d68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ac66b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de6c36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f9b639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cf6da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4ED07-17D2-4BEB-BA36-B06C75FE557B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8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10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d71e5f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d71e5f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b83d68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ac66b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de6c36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f9b639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cf6da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19CDD-2B48-4B58-818F-B028901932CF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edublogs.tv/play.php?vid=723" TargetMode="External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hyperlink" Target="http://www.yorkville.k12.il.us/webquests/webqfrey/webqsfrey.html" TargetMode="External"/><Relationship Id="rId3" Type="http://schemas.openxmlformats.org/officeDocument/2006/relationships/image" Target="../media/image10.png"/><Relationship Id="rId4" Type="http://schemas.openxmlformats.org/officeDocument/2006/relationships/hyperlink" Target="http://intouch.saisd.net/opencampus/course/view.php?id=33" TargetMode="External"/><Relationship Id="rId5" Type="http://schemas.openxmlformats.org/officeDocument/2006/relationships/image" Target="../media/image11.jpeg"/><Relationship Id="rId6" Type="http://schemas.openxmlformats.org/officeDocument/2006/relationships/hyperlink" Target="http://intouch.saisd.net/itech/mod/questionnaire/view.php?id=1181" TargetMode="External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slideLayout" Target="../slideLayouts/slideLayout25.xml"/><Relationship Id="rId1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gif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Title 1" descr=""/>
          <p:cNvPicPr/>
          <p:nvPr/>
        </p:nvPicPr>
        <p:blipFill>
          <a:blip r:embed="rId1"/>
          <a:stretch/>
        </p:blipFill>
        <p:spPr>
          <a:xfrm>
            <a:off x="682560" y="1554120"/>
            <a:ext cx="7785000" cy="23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Title 1" descr=""/>
          <p:cNvPicPr/>
          <p:nvPr/>
        </p:nvPicPr>
        <p:blipFill>
          <a:blip r:embed="rId1"/>
          <a:stretch/>
        </p:blipFill>
        <p:spPr>
          <a:xfrm>
            <a:off x="463680" y="115920"/>
            <a:ext cx="8308800" cy="1657440"/>
          </a:xfrm>
          <a:prstGeom prst="rect">
            <a:avLst/>
          </a:prstGeom>
          <a:ln w="0">
            <a:noFill/>
          </a:ln>
        </p:spPr>
      </p:pic>
      <p:sp>
        <p:nvSpPr>
          <p:cNvPr id="312" name="PlaceHolder 1"/>
          <p:cNvSpPr>
            <a:spLocks noGrp="1"/>
          </p:cNvSpPr>
          <p:nvPr>
            <p:ph/>
          </p:nvPr>
        </p:nvSpPr>
        <p:spPr>
          <a:xfrm>
            <a:off x="685800" y="1828440"/>
            <a:ext cx="8021520" cy="685800"/>
          </a:xfrm>
          <a:prstGeom prst="rect">
            <a:avLst/>
          </a:prstGeom>
          <a:noFill/>
          <a:ln w="0">
            <a:noFill/>
          </a:ln>
        </p:spPr>
        <p:txBody>
          <a:bodyPr lIns="146160" rIns="4572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To provide technology resources for educators and students alike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3" name="Rectangle 4"/>
          <p:cNvSpPr/>
          <p:nvPr/>
        </p:nvSpPr>
        <p:spPr>
          <a:xfrm>
            <a:off x="1905120" y="3276720"/>
            <a:ext cx="5500440" cy="20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 u="sng">
                <a:solidFill>
                  <a:srgbClr val="ffde66"/>
                </a:solidFill>
                <a:uFillTx/>
                <a:latin typeface="Corbel"/>
                <a:hlinkClick r:id="rId2"/>
              </a:rPr>
              <a:t>Do you believe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Title 1" descr=""/>
          <p:cNvPicPr/>
          <p:nvPr/>
        </p:nvPicPr>
        <p:blipFill>
          <a:blip r:embed="rId1"/>
          <a:stretch/>
        </p:blipFill>
        <p:spPr>
          <a:xfrm>
            <a:off x="463680" y="115920"/>
            <a:ext cx="8308800" cy="1657440"/>
          </a:xfrm>
          <a:prstGeom prst="rect">
            <a:avLst/>
          </a:prstGeom>
          <a:ln w="0">
            <a:noFill/>
          </a:ln>
        </p:spPr>
      </p:pic>
      <p:sp>
        <p:nvSpPr>
          <p:cNvPr id="315" name="PlaceHolder 1"/>
          <p:cNvSpPr>
            <a:spLocks noGrp="1"/>
          </p:cNvSpPr>
          <p:nvPr>
            <p:ph/>
          </p:nvPr>
        </p:nvSpPr>
        <p:spPr>
          <a:xfrm>
            <a:off x="740880" y="1828440"/>
            <a:ext cx="8021880" cy="685800"/>
          </a:xfrm>
          <a:prstGeom prst="rect">
            <a:avLst/>
          </a:prstGeom>
          <a:noFill/>
          <a:ln w="0">
            <a:noFill/>
          </a:ln>
        </p:spPr>
        <p:txBody>
          <a:bodyPr lIns="146160" rIns="4572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It’s not new, but improved…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16" name="Picture 2" descr=""/>
          <p:cNvPicPr/>
          <p:nvPr/>
        </p:nvPicPr>
        <p:blipFill>
          <a:blip r:embed="rId2"/>
          <a:stretch/>
        </p:blipFill>
        <p:spPr>
          <a:xfrm>
            <a:off x="2266920" y="2992320"/>
            <a:ext cx="4378320" cy="3048120"/>
          </a:xfrm>
          <a:prstGeom prst="rect">
            <a:avLst/>
          </a:prstGeom>
          <a:ln w="0">
            <a:noFill/>
          </a:ln>
        </p:spPr>
      </p:pic>
      <p:pic>
        <p:nvPicPr>
          <p:cNvPr id="317" name="Rectangle 6" descr=""/>
          <p:cNvPicPr/>
          <p:nvPr/>
        </p:nvPicPr>
        <p:blipFill>
          <a:blip r:embed="rId3"/>
          <a:stretch/>
        </p:blipFill>
        <p:spPr>
          <a:xfrm>
            <a:off x="1633680" y="3749760"/>
            <a:ext cx="5651280" cy="113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2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54 -0.06181 C -0.254 -0.11991 -0.20105 -0.16736 -0.13629 -0.16736 L 0.13611 -0.16736 C 0.20139 -0.16736 0.25434 -0.11991 0.25434 -0.06181 L 0.25434 0.17893 C 0.25434 0.2375 0.20139 0.2868 0.13611 0.2868 L -0.13629 0.2868 C -0.20105 0.2868 -0.254 0.2375 -0.254 0.17893 Z">
                                      <p:cBhvr>
                                        <p:cTn id="6" dur="5000" fill="hold"/>
                                        <p:tgtEl>
                                          <p:spTgt spid="3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Title 1" descr=""/>
          <p:cNvPicPr/>
          <p:nvPr/>
        </p:nvPicPr>
        <p:blipFill>
          <a:blip r:embed="rId1"/>
          <a:stretch/>
        </p:blipFill>
        <p:spPr>
          <a:xfrm>
            <a:off x="463680" y="115920"/>
            <a:ext cx="8308800" cy="1657440"/>
          </a:xfrm>
          <a:prstGeom prst="rect">
            <a:avLst/>
          </a:prstGeom>
          <a:ln w="0">
            <a:noFill/>
          </a:ln>
        </p:spPr>
      </p:pic>
      <p:sp>
        <p:nvSpPr>
          <p:cNvPr id="319" name="PlaceHolder 1"/>
          <p:cNvSpPr>
            <a:spLocks noGrp="1"/>
          </p:cNvSpPr>
          <p:nvPr>
            <p:ph/>
          </p:nvPr>
        </p:nvSpPr>
        <p:spPr>
          <a:xfrm>
            <a:off x="740880" y="1828440"/>
            <a:ext cx="8021880" cy="685800"/>
          </a:xfrm>
          <a:prstGeom prst="rect">
            <a:avLst/>
          </a:prstGeom>
          <a:noFill/>
          <a:ln w="0">
            <a:noFill/>
          </a:ln>
        </p:spPr>
        <p:txBody>
          <a:bodyPr lIns="146160" rIns="4572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Purposeful, planned, and backed up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20" name="Diagram 5" descr=""/>
          <p:cNvPicPr/>
          <p:nvPr/>
        </p:nvPicPr>
        <p:blipFill>
          <a:blip r:embed="rId2"/>
          <a:stretch/>
        </p:blipFill>
        <p:spPr>
          <a:xfrm>
            <a:off x="1517760" y="2766960"/>
            <a:ext cx="6108480" cy="412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Title 1" descr=""/>
          <p:cNvPicPr/>
          <p:nvPr/>
        </p:nvPicPr>
        <p:blipFill>
          <a:blip r:embed="rId1"/>
          <a:stretch/>
        </p:blipFill>
        <p:spPr>
          <a:xfrm>
            <a:off x="463680" y="115920"/>
            <a:ext cx="8308800" cy="1657440"/>
          </a:xfrm>
          <a:prstGeom prst="rect">
            <a:avLst/>
          </a:prstGeom>
          <a:ln w="0">
            <a:noFill/>
          </a:ln>
        </p:spPr>
      </p:pic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685800" y="1752120"/>
            <a:ext cx="8021520" cy="685800"/>
          </a:xfrm>
          <a:prstGeom prst="rect">
            <a:avLst/>
          </a:prstGeom>
          <a:noFill/>
          <a:ln w="0">
            <a:noFill/>
          </a:ln>
        </p:spPr>
        <p:txBody>
          <a:bodyPr lIns="146160" rIns="45720" tIns="0" bIns="0" anchor="t">
            <a:normAutofit fontScale="88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orbel"/>
              </a:rPr>
              <a:t>Web Quests, Online literature circles, VoiceThread, Digital Storytelling, Blogging, Online journaling, Microsoft Office, Moviemaker, iMovie, Podcasting</a:t>
            </a: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3" name="Rectangle 3"/>
          <p:cNvSpPr/>
          <p:nvPr/>
        </p:nvSpPr>
        <p:spPr>
          <a:xfrm>
            <a:off x="380880" y="2819520"/>
            <a:ext cx="3200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de66"/>
                </a:solidFill>
                <a:uFillTx/>
                <a:latin typeface="Corbel"/>
                <a:hlinkClick r:id="rId2"/>
              </a:rPr>
              <a:t>Grouchy Ladybu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Picture 2" descr=""/>
          <p:cNvPicPr/>
          <p:nvPr/>
        </p:nvPicPr>
        <p:blipFill>
          <a:blip r:embed="rId3"/>
          <a:stretch/>
        </p:blipFill>
        <p:spPr>
          <a:xfrm>
            <a:off x="990720" y="3352680"/>
            <a:ext cx="685800" cy="666720"/>
          </a:xfrm>
          <a:prstGeom prst="rect">
            <a:avLst/>
          </a:prstGeom>
          <a:ln w="0">
            <a:noFill/>
          </a:ln>
        </p:spPr>
      </p:pic>
      <p:sp>
        <p:nvSpPr>
          <p:cNvPr id="325" name="TextBox 5"/>
          <p:cNvSpPr/>
          <p:nvPr/>
        </p:nvSpPr>
        <p:spPr>
          <a:xfrm>
            <a:off x="3352680" y="2819520"/>
            <a:ext cx="3276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de66"/>
                </a:solidFill>
                <a:uFillTx/>
                <a:latin typeface="Corbel"/>
                <a:hlinkClick r:id="rId4"/>
              </a:rPr>
              <a:t>Online Literature Circ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Picture 3" descr="C:\Documents and Settings\itls\My Documents\My Pictures\Microsoft Clip Organizer\j0439545.jpg"/>
          <p:cNvPicPr/>
          <p:nvPr/>
        </p:nvPicPr>
        <p:blipFill>
          <a:blip r:embed="rId5"/>
          <a:stretch/>
        </p:blipFill>
        <p:spPr>
          <a:xfrm>
            <a:off x="4419720" y="3352680"/>
            <a:ext cx="914400" cy="689040"/>
          </a:xfrm>
          <a:prstGeom prst="rect">
            <a:avLst/>
          </a:prstGeom>
          <a:ln w="0">
            <a:noFill/>
          </a:ln>
        </p:spPr>
      </p:pic>
      <p:sp>
        <p:nvSpPr>
          <p:cNvPr id="327" name="TextBox 7"/>
          <p:cNvSpPr/>
          <p:nvPr/>
        </p:nvSpPr>
        <p:spPr>
          <a:xfrm>
            <a:off x="7315200" y="2819520"/>
            <a:ext cx="1447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de66"/>
                </a:solidFill>
                <a:uFillTx/>
                <a:latin typeface="Corbel"/>
                <a:hlinkClick r:id="rId6"/>
              </a:rPr>
              <a:t>Blo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Picture 4" descr=""/>
          <p:cNvPicPr/>
          <p:nvPr/>
        </p:nvPicPr>
        <p:blipFill>
          <a:blip r:embed="rId7"/>
          <a:stretch/>
        </p:blipFill>
        <p:spPr>
          <a:xfrm>
            <a:off x="7467480" y="335268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329" name="TextBox 9"/>
          <p:cNvSpPr/>
          <p:nvPr/>
        </p:nvSpPr>
        <p:spPr>
          <a:xfrm>
            <a:off x="457200" y="4648320"/>
            <a:ext cx="228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Microsoft Off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Box 10"/>
          <p:cNvSpPr/>
          <p:nvPr/>
        </p:nvSpPr>
        <p:spPr>
          <a:xfrm>
            <a:off x="3505320" y="4495680"/>
            <a:ext cx="2590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Digital Storytell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VoiceTh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Box 11"/>
          <p:cNvSpPr/>
          <p:nvPr/>
        </p:nvSpPr>
        <p:spPr>
          <a:xfrm>
            <a:off x="6629400" y="4572000"/>
            <a:ext cx="228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iMovi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Podca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Picture 5" descr=""/>
          <p:cNvPicPr/>
          <p:nvPr/>
        </p:nvPicPr>
        <p:blipFill>
          <a:blip r:embed="rId8"/>
          <a:stretch/>
        </p:blipFill>
        <p:spPr>
          <a:xfrm>
            <a:off x="762120" y="5257800"/>
            <a:ext cx="1295280" cy="39996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6" descr=""/>
          <p:cNvPicPr/>
          <p:nvPr/>
        </p:nvPicPr>
        <p:blipFill>
          <a:blip r:embed="rId9"/>
          <a:stretch/>
        </p:blipFill>
        <p:spPr>
          <a:xfrm>
            <a:off x="7543800" y="5867280"/>
            <a:ext cx="541440" cy="80028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7" descr="C:\Documents and Settings\itls\Local Settings\Temporary Internet Files\Content.IE5\89ATU4EX\MCj04417340000[1].png"/>
          <p:cNvPicPr/>
          <p:nvPr/>
        </p:nvPicPr>
        <p:blipFill>
          <a:blip r:embed="rId10"/>
          <a:stretch/>
        </p:blipFill>
        <p:spPr>
          <a:xfrm>
            <a:off x="411480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Title 1" descr=""/>
          <p:cNvPicPr/>
          <p:nvPr/>
        </p:nvPicPr>
        <p:blipFill>
          <a:blip r:embed="rId1"/>
          <a:stretch/>
        </p:blipFill>
        <p:spPr>
          <a:xfrm>
            <a:off x="463680" y="115920"/>
            <a:ext cx="8308800" cy="1657440"/>
          </a:xfrm>
          <a:prstGeom prst="rect">
            <a:avLst/>
          </a:prstGeom>
          <a:ln w="0">
            <a:noFill/>
          </a:ln>
        </p:spPr>
      </p:pic>
      <p:sp>
        <p:nvSpPr>
          <p:cNvPr id="336" name="PlaceHolder 1"/>
          <p:cNvSpPr>
            <a:spLocks noGrp="1"/>
          </p:cNvSpPr>
          <p:nvPr>
            <p:ph/>
          </p:nvPr>
        </p:nvSpPr>
        <p:spPr>
          <a:xfrm>
            <a:off x="740880" y="1828440"/>
            <a:ext cx="8021880" cy="685800"/>
          </a:xfrm>
          <a:prstGeom prst="rect">
            <a:avLst/>
          </a:prstGeom>
          <a:noFill/>
          <a:ln w="0">
            <a:noFill/>
          </a:ln>
        </p:spPr>
        <p:txBody>
          <a:bodyPr lIns="146160" rIns="45720" tIns="0" bIns="0" anchor="t">
            <a:normAutofit fontScale="97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Visit ePath: Virtual Learner Series (online courses)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Adapt a lesson (could be a warm up, first day of school activity, etc.)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37" name="Picture 3" descr="C:\Documents and Settings\itls\Local Settings\Temporary Internet Files\Content.IE5\WOQ9OGOQ\MMj02969310000[1].gif"/>
          <p:cNvPicPr/>
          <p:nvPr/>
        </p:nvPicPr>
        <p:blipFill>
          <a:blip r:embed="rId2"/>
          <a:stretch/>
        </p:blipFill>
        <p:spPr>
          <a:xfrm>
            <a:off x="2666880" y="2971800"/>
            <a:ext cx="3497400" cy="2948040"/>
          </a:xfrm>
          <a:prstGeom prst="rect">
            <a:avLst/>
          </a:prstGeom>
          <a:ln w="0">
            <a:noFill/>
          </a:ln>
        </p:spPr>
      </p:pic>
      <p:pic>
        <p:nvPicPr>
          <p:cNvPr id="338" name="Rectangle 5" descr=""/>
          <p:cNvPicPr/>
          <p:nvPr/>
        </p:nvPicPr>
        <p:blipFill>
          <a:blip r:embed="rId3"/>
          <a:stretch/>
        </p:blipFill>
        <p:spPr>
          <a:xfrm>
            <a:off x="1481040" y="2835360"/>
            <a:ext cx="6108840" cy="113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path" presetID="4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9566 0.01527 C -0.48472 -0.00996 -0.4691 -0.03403 -0.43785 -0.03403 C -0.4026 -0.03403 -0.39063 -0.00996 -0.37899 0.01527 C -0.36337 0.04328 -0.35174 0.07129 -0.3125 0.07129 C -0.27743 0.07129 -0.26597 0.04328 -0.25017 0.01527 C -0.24288 -0.00996 -0.22708 -0.03403 -0.19201 -0.03403 C -0.16076 -0.03403 -0.14549 -0.00996 -0.13316 0.01527 C -0.12153 0.04328 -0.10625 0.07129 -0.07083 0.07129 C -0.03559 0.07129 -0.00816 0.01527 -0.00816 0.0155 C 0.00278 -0.00996 0.01528 -0.03403 0.04965 -0.03403 C 0.0849 -0.03403 0.09687 -0.00996 0.10851 0.01527 C 0.12413 0.04328 0.13576 0.07129 0.175 0.07129 C 0.21007 0.07129 0.22153 0.04328 0.23316 0.01527 C 0.24878 -0.00996 0.26042 -0.03403 0.29549 -0.03403 C 0.32674 -0.03403 0.34201 -0.00996 0.35434 0.01527 C 0.36597 0.04328 0.38125 0.07129 0.41667 0.07129 C 0.45191 0.07129 0.46354 0.04328 0.47934 0.01527 E">
                                      <p:cBhvr>
                                        <p:cTn id="12" dur="5000" fill="hold"/>
                                        <p:tgtEl>
                                          <p:spTgt spid="3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5T14:05:02Z</dcterms:created>
  <dc:creator>itls</dc:creator>
  <dc:description/>
  <dc:language>en-US</dc:language>
  <cp:lastModifiedBy>itls</cp:lastModifiedBy>
  <dcterms:modified xsi:type="dcterms:W3CDTF">2009-08-03T19:20:04Z</dcterms:modified>
  <cp:revision>3</cp:revision>
  <dc:subject/>
  <dc:title>Differentiated Instruction  with  Technology</dc:title>
</cp:coreProperties>
</file>